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F63-CD9B-4172-86D9-08729BB5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D0E-5053-4206-A756-86511F81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476-A51F-4FA7-B4D0-6EF771C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284-1E9D-4B1B-847D-3AF95693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83B-A01F-4E56-9B05-AF6073F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6CA7-77DD-418A-B4BB-67C0D55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3A7D-588A-4A8C-B61D-021F9B0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9F5-BA30-423B-B26D-0695B20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7366-483D-49D5-B7F9-8D6B9F7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EA33-D251-465B-BEDB-29BBECB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37E-2793-4704-ADE2-A98CE92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C93-0A95-47F0-A89B-88554EB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962B-6266-47E9-A2A3-0C9443A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2F2E-AEAF-4827-A55E-7C8E17E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7943-FF8B-4F55-8CD2-3FA73C8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010-EF6E-4F4D-92B1-FFC1D375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201-A1E8-4906-870B-7A86C138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007-96D6-4741-BC1C-F0202F1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106-9588-4671-BB9B-CD730A9B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E8D-D7A6-464B-A614-AB8FD6A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552-E141-4D22-A51C-ACC40AC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326-3BC5-4DB2-8D06-19AB601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734-A1FE-4E64-844D-ACDC894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A4C-A162-4E85-AF09-85C73C9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7AD-FCB3-49C4-AA79-EFCF2536E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950-8E1E-4FF7-8617-95AB1325D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OA- Finish the analog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 : exhausted :: ______ : f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on : dismiss :: ______ :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rrect ans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go in the first bl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Go :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ocabulary Practice-write the best definition for the underlined wor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Jem’s arm healed, and his fear of never being able to play football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ua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 was seldom self-conscious about his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dleys kept to themselves,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dile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givable in our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ister Alexandra was the Finch who remained at the Landing: she marri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ci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who spent most of his time lying in a hammock by the ri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ross the square, shuffled in and out of stores around it, took their time about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house liv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volent phan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eewri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. Write until the timer buz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iz on Ch. 1. Answer in complete sentence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were the children fascinated with the Radley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first dare concerning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Radley house have a reputation. Was it deser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Finches get to Montgom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Dill’s family situation with Scout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idence was there that Scout was a bright gir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iz-Cont. Explain who each of the characters is and two of their trait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elling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eing told as it happens or as a memory? What is tha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3 things that stick out to you about chapter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4, In Maycomb, Alabama, things seemed to move quite slowly. Re-read the description of Maycomb on page 5, how do you think you’d feel living and growing up in that town at that time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 2 for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22:18Z</dcterms:created>
  <dc:creator>rebecca</dc:creator>
  <dc:description/>
  <dc:language>en-US</dc:language>
  <cp:lastModifiedBy>vhs</cp:lastModifiedBy>
  <dcterms:modified xsi:type="dcterms:W3CDTF">2010-01-12T16:14:13Z</dcterms:modified>
  <cp:revision>2</cp:revision>
  <dc:subject/>
  <dc:title>DOA- Finish the analogies</dc:title>
</cp:coreProperties>
</file>